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15D4-51FA-4402-A7BC-6D7488BC0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BD4B-19D3-4B4E-B338-4ABE882D0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DEC2-4C0B-4851-B33D-251D75E19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638E-F6F2-4EA4-9E55-355AB3D8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8897-BB36-4913-99B7-433BACB2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9C3A-A7C4-46D9-993B-478677CDC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A939-00BC-4C6C-8274-F731DCE2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1400" y="4363560"/>
            <a:ext cx="49752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1EBE-32CA-43AB-BBB2-3114F3D1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6F63-EAB8-454F-8442-0E9D82C7C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522680" cy="33940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5320" y="4457520"/>
            <a:ext cx="55706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FB4E-4E75-4BC8-9E78-0EA728627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73C3-8DD6-49D1-ABD3-A6738CC93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DF68-4B7A-4E11-B82B-46BDAD3C1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FFC7-EF6E-47BA-9432-BD19E37F1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221A-FC11-4FE0-8866-B3AE2B8FC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319B-F62A-47CC-93B0-A880D37AC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061D-2396-4786-8D26-28CB2FC07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5428-C932-4589-80C4-79E11BFC6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5966-9D8B-470D-962A-614604371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1B05-8971-4C46-8508-0A27E6D23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8889B-4331-4F7C-B1C4-698397A14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FABE-3A05-44F1-970D-2619F1F78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0FDD-95F4-4E3C-9935-424FC012F98F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" name=""/>
          <p:cNvSpPr/>
          <p:nvPr/>
        </p:nvSpPr>
        <p:spPr>
          <a:xfrm>
            <a:off x="1297440" y="65469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CG Omega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5621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9625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Positioning, Content, Competitive Advantage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[Confidential]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27-Octo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8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18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19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19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19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0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4703-BDDB-4C10-A37A-1FAC0E604FF3}" type="slidenum">
              <a:t>10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214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(other)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5FE4-3C3F-4214-A159-F6738D6F72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219320"/>
            <a:ext cx="7467480" cy="5562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108320" y="1720800"/>
            <a:ext cx="465480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* Reaction Display</a:t>
            </a:r>
            <a:br>
              <a:rPr sz="2500"/>
            </a:b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 for patents published December 2003 -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1144440" y="273060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984480" y="5454720"/>
            <a:ext cx="4365360" cy="783000"/>
            <a:chOff x="3984480" y="5454720"/>
            <a:chExt cx="4365360" cy="783000"/>
          </a:xfrm>
        </p:grpSpPr>
        <p:sp>
          <p:nvSpPr>
            <p:cNvPr id="222" name=""/>
            <p:cNvSpPr/>
            <p:nvPr/>
          </p:nvSpPr>
          <p:spPr>
            <a:xfrm>
              <a:off x="5134680" y="545472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4480" y="559908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4440" y="551340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5" name=""/>
          <p:cNvSpPr/>
          <p:nvPr/>
        </p:nvSpPr>
        <p:spPr>
          <a:xfrm>
            <a:off x="1052280" y="53352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34ED-311D-4B0F-9514-A429718F21C0}" type="slidenum">
              <a:t>12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7" name=""/>
          <p:cNvSpPr/>
          <p:nvPr/>
        </p:nvSpPr>
        <p:spPr>
          <a:xfrm>
            <a:off x="665280" y="1565280"/>
            <a:ext cx="82501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1375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2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11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Numerical bioactivity data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689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Indexing of compounds not covered elsewhere:</a:t>
            </a:r>
            <a:br>
              <a:rPr sz="2200"/>
            </a:b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Indexing of Prophetic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689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20-25 % more compounds than in other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CD2A-D8DB-4694-BBC0-0745D5FCD0DC}" type="slidenum">
              <a:t>13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229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236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239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E81B-C790-43D6-96DE-674041EB253E}" type="slidenum">
              <a:t>14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45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247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091160" y="496800"/>
            <a:ext cx="563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4849920" y="6485040"/>
            <a:ext cx="40860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022C-E21F-4B70-95E1-B3FB99594C2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86760" y="268200"/>
            <a:ext cx="5425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spcAft>
                <a:spcPts val="181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55 Roman"/>
                <a:ea typeface="Times New Roman"/>
              </a:rPr>
              <a:t>EASY-TO-USE EXPORT-WIZARD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3" name=""/>
          <p:cNvSpPr/>
          <p:nvPr/>
        </p:nvSpPr>
        <p:spPr>
          <a:xfrm>
            <a:off x="960120" y="496800"/>
            <a:ext cx="8139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ort to Structure-Activity-Table (SAR)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A879-E3B0-44F5-B16F-306CA9CD17F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802800" y="6019920"/>
            <a:ext cx="8259480" cy="764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is a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G Omega"/>
              </a:rPr>
              <a:t>substance profile</a:t>
            </a: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 accumulating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multiple properties and reactions (from different patent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1805-C493-47ED-973F-630EB216CF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1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CrossFire format 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iscoveryGate implement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atabaseBrowser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ompound Index (coming soon)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Semi-automatically indexed patents with frontpage, claims, many reactions and physical data already 2 weeks after publication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0720" indent="-27720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incl. Markush structures/reactions and bioactivity data a few weeks lat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2640" indent="-33264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trong Yearly Growth anticipated:</a:t>
            </a:r>
            <a:br>
              <a:rPr sz="1900"/>
            </a:b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compounds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patent citation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8746-4141-4664-8281-23ACE3012E7A}" type="slidenum">
              <a:t>1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4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269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2116-50E8-40CB-9E12-4E6984CBFE9B}" type="slidenum">
              <a:t>19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86000" y="1868400"/>
            <a:ext cx="78278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1073160" indent="-31752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517760" indent="-25416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76280" indent="-47628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Integrated with other data sources on DiscoveryGate soon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(mid 2005)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258560" y="1233360"/>
            <a:ext cx="236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3DDB-B6EA-4D5F-98C3-966B60F9894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 From Publication Year 2004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1309-721D-45C7-9316-60C9F7E94A09}" type="slidenum">
              <a:t>20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with frontpage, claim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compounds, reactions and phys. data already 2 weeks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fter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incl. Markush structures, Markush reactions and bioactivity data a few weeks 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 (so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Reaction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arch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ophisticat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25E5-67B7-4909-959C-5EC167878CC1}" type="slidenum">
              <a:t>21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5289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407160" indent="-407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407160" indent="-407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42760" indent="-33300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73D9-C363-4FDB-B1DC-B17CFCC9F3E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s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2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2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2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58D1-E2F0-47A3-B434-26F4132D1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1441440"/>
            <a:ext cx="781344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Main Markush structures 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d main Markush Reactions*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Defined 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compounds related to Markush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asy relevance check without time consuming access to original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6D00-4584-4BEF-8869-BB831E9EB0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0" name=""/>
          <p:cNvSpPr/>
          <p:nvPr/>
        </p:nvSpPr>
        <p:spPr>
          <a:xfrm>
            <a:off x="7473240" y="5346720"/>
            <a:ext cx="130500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3" name=""/>
          <p:cNvSpPr/>
          <p:nvPr/>
        </p:nvSpPr>
        <p:spPr>
          <a:xfrm>
            <a:off x="2725560" y="640080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F03B-93A8-41DC-830B-BD541E132958}" type="slidenum">
              <a:t>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15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16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4" name=""/>
          <p:cNvSpPr/>
          <p:nvPr/>
        </p:nvSpPr>
        <p:spPr>
          <a:xfrm>
            <a:off x="847080" y="496800"/>
            <a:ext cx="843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65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357B-8A8E-4371-8E3E-5FEF7A43E7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17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86320" y="228600"/>
            <a:ext cx="8403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FDBB-27E3-4DBA-AD3B-CA98A17F8F6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0" name=""/>
          <p:cNvSpPr/>
          <p:nvPr/>
        </p:nvSpPr>
        <p:spPr>
          <a:xfrm>
            <a:off x="1386000" y="1295280"/>
            <a:ext cx="7813440" cy="63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62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Link to Similar Reactions in all other MDL Databas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414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808080"/>
              </a:buClr>
              <a:buFont typeface="CG Omega"/>
              <a:buChar char="•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buClr>
                <a:srgbClr val="99cc00"/>
              </a:buClr>
              <a:buFont typeface="Wingdings" charset="2"/>
              <a:buChar char="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609588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249D-F28F-46E3-8FDF-AD9EB5A9544F}" type="slidenum">
              <a:t>9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0-28T10:33:45Z</dcterms:modified>
  <cp:revision>269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